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0C6F7-80D7-4CA0-A2F3-DA048D5A8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9CE31-1F98-4730-AD9D-7BE1CA98E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BCBF0-5573-4D45-94F0-A583105B8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37796-4C36-4285-A8EA-A9B6CCEEF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8D396-BBEC-437D-AA26-0B2113B22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16E81-BC9A-43BE-94AF-526F4A0EF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7C712-D961-4513-8BE3-2E64A5AE7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99FF-A215-4C3A-9F8C-CD9283FF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00E24-C501-4CC5-BF07-08080A21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12E05-26AC-4503-BB6D-2F46BF44B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058C9-5B66-451F-BBEA-0AA7FDD72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4EA7-7DA4-466A-B4D8-1806B52F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661BC-74DF-4B5E-9E5F-A868CB6AA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A60D8-A182-42D3-9C46-B32CE138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ABF9C-509E-467A-B94F-F4450279A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DB6C-EA94-4C39-8C34-01FA29215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CA2F4-E2A6-41E3-9834-4EECCFA27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CA49-E237-4883-85B0-19A157624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B01B-0DD1-4A80-A147-FC9C7195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C0DA-26EE-48FF-91B2-F3CDD3AB9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89930-0D21-4551-944C-44E5445A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95C0-3870-4057-9135-BB5FA7285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EFB4-8DB1-43E5-AF08-B7F1156E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B478-E397-4634-8307-15FC8CECA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3403-FE53-4040-963D-365047E3822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37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3360" y="61009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164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31000" y="61009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C699-C4FB-4C0E-BB91-EE05319339D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bs.org/newshour/thenews/thevote/story.php?id=4965&amp;package_id=634"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30OyU4O80i4" TargetMode="External"/><Relationship Id="rId2" Type="http://schemas.openxmlformats.org/officeDocument/2006/relationships/hyperlink" Target="http://www.youtube.com/watch?v=yx5d3haRG7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tEPd98CbbMk"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637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nited States Constitution</a:t>
            </a:r>
            <a:endParaRPr b="0" lang="en-US" sz="4400" spc="-1" strike="noStrike">
              <a:solidFill>
                <a:srgbClr val="996633"/>
              </a:solidFill>
              <a:latin typeface="Times New Roman"/>
            </a:endParaRPr>
          </a:p>
        </p:txBody>
      </p:sp>
      <p:sp>
        <p:nvSpPr>
          <p:cNvPr id="90" name="PlaceHolder 2"/>
          <p:cNvSpPr>
            <a:spLocks noGrp="1"/>
          </p:cNvSpPr>
          <p:nvPr>
            <p:ph type="subTitle"/>
          </p:nvPr>
        </p:nvSpPr>
        <p:spPr>
          <a:xfrm>
            <a:off x="16495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IVICS</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Mr. Dircks</a:t>
            </a:r>
            <a:endParaRPr b="0" lang="en-US" sz="3200" spc="-1" strike="noStrike">
              <a:solidFill>
                <a:srgbClr val="a08366"/>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 – Legislative Branch</a:t>
            </a:r>
            <a:br>
              <a:rPr sz="4000"/>
            </a:br>
            <a:r>
              <a:rPr b="0" lang="en-US" sz="4000" spc="-1" strike="noStrike">
                <a:solidFill>
                  <a:srgbClr val="996633"/>
                </a:solidFill>
                <a:latin typeface="Times New Roman"/>
              </a:rPr>
              <a:t>(Makes the LAWS)</a:t>
            </a:r>
            <a:endParaRPr b="0" lang="en-US" sz="4000" spc="-1" strike="noStrike">
              <a:solidFill>
                <a:srgbClr val="996633"/>
              </a:solidFill>
              <a:latin typeface="Times New Roman"/>
            </a:endParaRPr>
          </a:p>
        </p:txBody>
      </p:sp>
      <p:sp>
        <p:nvSpPr>
          <p:cNvPr id="11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gress</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 of Representatives (435)</a:t>
            </a:r>
            <a:endParaRPr b="0" lang="en-US" sz="24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umber of Reps based upon state’s population</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rm = 2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0% elected every two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peaker of the House = presiding Officer</a:t>
            </a:r>
            <a:endParaRPr b="0" lang="en-US" sz="20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100)</a:t>
            </a:r>
            <a:endParaRPr b="0" lang="en-US" sz="24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 Senators per state</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rm = 6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3 elected every two years – Why?</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Vice President = presiding Officer – What does he do?</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esident Pro Tempore – if VP is away</a:t>
            </a:r>
            <a:endParaRPr b="0" lang="en-US" sz="2000" spc="-1" strike="noStrike">
              <a:solidFill>
                <a:srgbClr val="402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fication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ge</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5 - Representative</a:t>
            </a:r>
            <a:endParaRPr b="0" lang="en-US" sz="24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30 - Senator</a:t>
            </a:r>
            <a:endParaRPr b="0" lang="en-US" sz="24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itizenship</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7 year U.S. Citizen – Representative</a:t>
            </a:r>
            <a:endParaRPr b="0" lang="en-US" sz="24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9 year U.S. Citizen – Senator</a:t>
            </a:r>
            <a:endParaRPr b="0" lang="en-US" sz="24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idency</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tate resident - both</a:t>
            </a:r>
            <a:endParaRPr b="0" lang="en-US" sz="2400" spc="-1" strike="noStrike">
              <a:solidFill>
                <a:srgbClr val="402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gressional Powers – All</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venue – taxes</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orrow</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gulate trade</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clare War</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urrency</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aturalization</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lastic Clause* - power to create laws necessary and proper</a:t>
            </a:r>
            <a:endParaRPr b="0" lang="en-US" sz="2400" spc="-1" strike="noStrike">
              <a:solidFill>
                <a:srgbClr val="402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gressional Powers – Denie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lig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abeas Corpus – *Except during ‘crisis’</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Produce the body” </a:t>
            </a:r>
            <a:endParaRPr b="0" lang="en-US" sz="24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 Post Facto</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fter the fact”</a:t>
            </a:r>
            <a:endParaRPr b="0" lang="en-US" sz="2400" spc="-1" strike="noStrike">
              <a:solidFill>
                <a:srgbClr val="402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 of Representatives – Power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 all revenue bill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 impeachment process</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ormally charge someone with wrongdoing</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lect President if electoral college ties</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 Power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firm all Presidential appointments </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cept staff (Chief of Staff, Press Secretary, etc.)</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ury in impeachment trial</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pprove treaties (2/3 majority)</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libuster – continue speaking to delay or kill action on a specific bill</a:t>
            </a: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Legislative Branch</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ill to  Law Proces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s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n goes t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pproved by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nt to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Approved sent t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signed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not signed ?</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alled a?</a:t>
            </a:r>
            <a:endParaRPr b="0" lang="en-US" sz="18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ot signed but not vetoed and Congress adjourns?</a:t>
            </a:r>
            <a:endParaRPr b="0" lang="en-US" sz="18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gress votes to override veto with a ? Majority?</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not returned in ten days ?</a:t>
            </a: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QUIZ</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ke five minutes to review your notes on Article 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I – Executive Branch</a:t>
            </a:r>
            <a:br>
              <a:rPr sz="4000"/>
            </a:br>
            <a:r>
              <a:rPr b="0" lang="en-US" sz="4000" spc="-1" strike="noStrike">
                <a:solidFill>
                  <a:srgbClr val="996633"/>
                </a:solidFill>
                <a:latin typeface="Times New Roman"/>
              </a:rPr>
              <a:t>(Enforces the LAWS)</a:t>
            </a:r>
            <a:endParaRPr b="0" lang="en-US" sz="40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hief Executive</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ajor role?</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Qualification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5 years old</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atural born citizen</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4 year U.S. resident</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about the VP?  Why?</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rm</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4 year term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 term max</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 year total max</a:t>
            </a:r>
            <a:endParaRPr b="0" lang="en-US" sz="2000" spc="-1" strike="noStrike">
              <a:solidFill>
                <a:srgbClr val="402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I – Executive Branch</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lection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a7f32"/>
                </a:solidFill>
                <a:uFillTx/>
                <a:latin typeface="Times New Roman"/>
                <a:hlinkClick r:id="rId1"/>
              </a:rPr>
              <a:t>How the Electoral College Work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lectoral college – who &amp; how many?</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opular vote vs. Electoral college</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ower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ppoint key official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mmander-in-Chief</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egotiate treaties &amp; conduct foreign policy</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utie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tate of the Union</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eive foreign diplomat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gnize foreign governments</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ight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fuse to testify before a court – executive privilege</a:t>
            </a:r>
            <a:endParaRPr b="0" lang="en-US" sz="1800" spc="-1" strike="noStrike">
              <a:solidFill>
                <a:srgbClr val="402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I – Executive Branch</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peachmen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y or what fo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mpeaches</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ries</a:t>
            </a:r>
            <a:endParaRPr b="0" lang="en-US" sz="2400" spc="-1" strike="noStrike">
              <a:solidFill>
                <a:srgbClr val="402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DECLARATION OF INDEPENDENCE</a:t>
            </a:r>
            <a:endParaRPr b="0" lang="en-US" sz="4000" spc="-1" strike="noStrike">
              <a:solidFill>
                <a:srgbClr val="996633"/>
              </a:solidFill>
              <a:latin typeface="Times New Roman"/>
            </a:endParaRPr>
          </a:p>
        </p:txBody>
      </p:sp>
      <p:sp>
        <p:nvSpPr>
          <p:cNvPr id="9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at is the Declaration of Independence?</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mal note declaring America free from Britain</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ist of grievances (complaints) against King George</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ccording to the Declaration of Independence, if government interferes with people’s rights, they have the duty to?</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lish the government = REVOLT!!</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in ideas of the Declaration:</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men are created equal</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en have rights that cannot be taken away - Locke</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overnments derive power from the people</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II – Judicial Branch</a:t>
            </a:r>
            <a:br>
              <a:rPr sz="4000"/>
            </a:br>
            <a:r>
              <a:rPr b="0" lang="en-US" sz="4000" spc="-1" strike="noStrike">
                <a:solidFill>
                  <a:srgbClr val="996633"/>
                </a:solidFill>
                <a:latin typeface="Times New Roman"/>
              </a:rPr>
              <a:t>(Interpret the LAWS)</a:t>
            </a:r>
            <a:endParaRPr b="0" lang="en-US" sz="40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preme Cour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Review?</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risdiction</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iginal</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ppellate – Hear appeals from lower courts</a:t>
            </a:r>
            <a:endParaRPr b="0" lang="en-US" sz="24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of Justices (9)</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ppointment proces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rm? Except for?</a:t>
            </a:r>
            <a:endParaRPr b="0" lang="en-US" sz="2800" spc="-1" strike="noStrike">
              <a:solidFill>
                <a:srgbClr val="402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V – Relations between States</a:t>
            </a:r>
            <a:endParaRPr b="0" lang="en-US" sz="40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tradition</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ormal process by which a fugitive found in state is surrendered to another state for trial or punishment. </a:t>
            </a:r>
            <a:endParaRPr b="0" lang="en-US" sz="28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ederal guarantee to the state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Full faith and credit shall be given in each state to the public acts, records, and proceedings of every other state.”</a:t>
            </a:r>
            <a:endParaRPr b="0" lang="en-US" sz="2800" spc="-1" strike="noStrike">
              <a:solidFill>
                <a:srgbClr val="402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V – Amendment Proces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urpose</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hows the Constitution is flexible and can change when necessary</a:t>
            </a:r>
            <a:endParaRPr b="0" lang="en-US" sz="2400" spc="-1" strike="noStrike">
              <a:solidFill>
                <a:srgbClr val="402000"/>
              </a:solidFill>
              <a:latin typeface="Times New Roman"/>
            </a:endParaRPr>
          </a:p>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posing Amendment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o? Congress</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many? 2/3 Majority</a:t>
            </a:r>
            <a:endParaRPr b="0" lang="en-US" sz="2400" spc="-1" strike="noStrike">
              <a:solidFill>
                <a:srgbClr val="402000"/>
              </a:solidFill>
              <a:latin typeface="Times New Roman"/>
            </a:endParaRPr>
          </a:p>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atifying Amendment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o? State Legislatures </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many? ¾ of all states (38)</a:t>
            </a:r>
            <a:endParaRPr b="0" lang="en-US" sz="2400" spc="-1" strike="noStrike">
              <a:solidFill>
                <a:srgbClr val="402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VI – Supremacy Clause</a:t>
            </a: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titution and Federal Law are the supreme law of the land!!!</a:t>
            </a:r>
            <a:endParaRPr b="0" lang="en-US" sz="3200" spc="-1" strike="noStrike">
              <a:solidFill>
                <a:srgbClr val="402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ill of Rights</a:t>
            </a:r>
            <a:br>
              <a:rPr sz="4400"/>
            </a:br>
            <a:r>
              <a:rPr b="0" lang="en-US" sz="4400" spc="-1" strike="noStrike">
                <a:solidFill>
                  <a:srgbClr val="996633"/>
                </a:solidFill>
                <a:latin typeface="Times New Roman"/>
              </a:rPr>
              <a:t>1-10</a:t>
            </a:r>
            <a:endParaRPr b="0" lang="en-US" sz="4400" spc="-1" strike="noStrike">
              <a:solidFill>
                <a:srgbClr val="402000"/>
              </a:solidFill>
              <a:latin typeface="Arial"/>
            </a:endParaRPr>
          </a:p>
        </p:txBody>
      </p:sp>
      <p:sp>
        <p:nvSpPr>
          <p:cNvPr id="146" name=""/>
          <p:cNvSpPr/>
          <p:nvPr/>
        </p:nvSpPr>
        <p:spPr>
          <a:xfrm>
            <a:off x="457200" y="1600200"/>
            <a:ext cx="4038480" cy="4530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 – Religious and political freedom</a:t>
            </a:r>
            <a:endParaRPr b="0" lang="en-US" sz="24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religion </a:t>
            </a:r>
            <a:endParaRPr b="0" lang="en-US" sz="2000" spc="-1" strike="noStrike">
              <a:solidFill>
                <a:srgbClr val="402000"/>
              </a:solidFill>
              <a:latin typeface="Arial"/>
            </a:endParaRPr>
          </a:p>
          <a:p>
            <a:pPr lvl="2" marL="1051560" indent="-210240">
              <a:lnSpc>
                <a:spcPct val="10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gress CANNOT establish a religion</a:t>
            </a:r>
            <a:endParaRPr b="0" lang="en-US" sz="18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speech</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press</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assembly</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petition</a:t>
            </a:r>
            <a:endParaRPr b="0" lang="en-US" sz="2000" spc="-1" strike="noStrike">
              <a:solidFill>
                <a:srgbClr val="402000"/>
              </a:solidFill>
              <a:latin typeface="Arial"/>
            </a:endParaRPr>
          </a:p>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 – Right to bear arms</a:t>
            </a:r>
            <a:endParaRPr b="0" lang="en-US" sz="2400" spc="-1" strike="noStrike">
              <a:solidFill>
                <a:srgbClr val="402000"/>
              </a:solidFill>
              <a:latin typeface="Arial"/>
            </a:endParaRPr>
          </a:p>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3 – Quartering troops</a:t>
            </a:r>
            <a:endParaRPr b="0" lang="en-US" sz="2400" spc="-1" strike="noStrike">
              <a:solidFill>
                <a:srgbClr val="402000"/>
              </a:solidFill>
              <a:latin typeface="Arial"/>
            </a:endParaRPr>
          </a:p>
        </p:txBody>
      </p:sp>
      <p:sp>
        <p:nvSpPr>
          <p:cNvPr id="147"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4 – Search and seizure</a:t>
            </a:r>
            <a:endParaRPr b="0" lang="en-US" sz="24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otects against unreasonable search and/or seizure</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eed ‘probable’ cause for search warrants (WHAT/WHERE)</a:t>
            </a:r>
            <a:endParaRPr b="0" lang="en-US" sz="2000" spc="-1" strike="noStrike">
              <a:solidFill>
                <a:srgbClr val="402000"/>
              </a:solidFill>
              <a:latin typeface="Arial"/>
            </a:endParaRPr>
          </a:p>
          <a:p>
            <a:pPr marL="318960" indent="-3189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5 – Rights of accused persons</a:t>
            </a:r>
            <a:endParaRPr b="0" lang="en-US" sz="24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ouble jeopardy protection</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quirement of indictment by Grand Jury</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ue process protection</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lf-incrimination protection</a:t>
            </a:r>
            <a:endParaRPr b="0" lang="en-US" sz="2000" spc="-1" strike="noStrike">
              <a:solidFill>
                <a:srgbClr val="402000"/>
              </a:solidFill>
              <a:latin typeface="Arial"/>
            </a:endParaRPr>
          </a:p>
          <a:p>
            <a:pPr marL="318960" indent="-318960">
              <a:lnSpc>
                <a:spcPct val="10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Bill of Rights</a:t>
            </a:r>
            <a:br>
              <a:rPr sz="4000"/>
            </a:br>
            <a:r>
              <a:rPr b="0" lang="en-US" sz="4000" spc="-1" strike="noStrike">
                <a:solidFill>
                  <a:srgbClr val="996633"/>
                </a:solidFill>
                <a:latin typeface="Times New Roman"/>
              </a:rPr>
              <a:t>1-10 (Part II)</a:t>
            </a:r>
            <a:endParaRPr b="0" lang="en-US" sz="40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6 – Right to a speedy, public trial</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ry of your peers</a:t>
            </a:r>
            <a:endParaRPr b="0" lang="en-US" sz="18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ight to counsel</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Times New Roman"/>
              </a:rPr>
              <a:t>Amendment 7 – Trial by jury in civil cases</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ry trial in civil cases where the value exceeds $20</a:t>
            </a:r>
            <a:endParaRPr b="0" lang="en-US" sz="1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8 – Limits of fines and punishments</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rotection against cruel and unusual punishment</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9 – Rights of people</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eople’s rights are not limited to the rights mentioned in the Constitution</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10 – Powers of states and people</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t>
            </a:r>
            <a:r>
              <a:rPr b="0" lang="en-US" sz="1800" spc="-1" strike="noStrike">
                <a:solidFill>
                  <a:srgbClr val="402000"/>
                </a:solidFill>
                <a:latin typeface="Times New Roman"/>
              </a:rPr>
              <a:t>Reserved’ powers clause – powers not mentioned belong to states and people</a:t>
            </a:r>
            <a:endParaRPr b="0" lang="en-US" sz="18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mendments 11-20</a:t>
            </a:r>
            <a:endParaRPr b="0" lang="en-US" sz="4400" spc="-1" strike="noStrike">
              <a:solidFill>
                <a:srgbClr val="996633"/>
              </a:solidFill>
              <a:latin typeface="Times New Roman"/>
            </a:endParaRPr>
          </a:p>
        </p:txBody>
      </p:sp>
      <p:sp>
        <p:nvSpPr>
          <p:cNvPr id="15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1 – Suits against stat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2 – Election of President and Vice Presid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3 – Abolition of slaver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4 – Rights of citizens regardless of race</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5 – Right to vote regardless of race</a:t>
            </a:r>
            <a:endParaRPr b="0" lang="en-US" sz="2400" spc="-1" strike="noStrike">
              <a:solidFill>
                <a:srgbClr val="402000"/>
              </a:solidFill>
              <a:latin typeface="Times New Roman"/>
            </a:endParaRPr>
          </a:p>
        </p:txBody>
      </p:sp>
      <p:sp>
        <p:nvSpPr>
          <p:cNvPr id="15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6 – Income tax</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7 – Direct election of Senator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8 – Prohibition of Alcohol</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9 – Woman suffrage (right to vote)</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0 – “Lame-Duck”</a:t>
            </a:r>
            <a:endParaRPr b="0" lang="en-US" sz="2400" spc="-1" strike="noStrike">
              <a:solidFill>
                <a:srgbClr val="402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mendments 21-27</a:t>
            </a:r>
            <a:endParaRPr b="0" lang="en-US" sz="4400" spc="-1" strike="noStrike">
              <a:solidFill>
                <a:srgbClr val="996633"/>
              </a:solidFill>
              <a:latin typeface="Times New Roman"/>
            </a:endParaRPr>
          </a:p>
        </p:txBody>
      </p:sp>
      <p:sp>
        <p:nvSpPr>
          <p:cNvPr id="15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1 – Repeal Amendment 18</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2 – Limit on Presidential terms (2 terms or 10 year max)</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3 – Presidential Electors for D.C.</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4 – Abolition of the Poll Tax</a:t>
            </a:r>
            <a:endParaRPr b="0" lang="en-US" sz="2400" spc="-1" strike="noStrike">
              <a:solidFill>
                <a:srgbClr val="402000"/>
              </a:solidFill>
              <a:latin typeface="Times New Roman"/>
            </a:endParaRPr>
          </a:p>
        </p:txBody>
      </p:sp>
      <p:sp>
        <p:nvSpPr>
          <p:cNvPr id="156"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5 – Presidential disability and succession</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6 – Eighteen-year-old vote</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7 – Restraint on Congressional salaries</a:t>
            </a:r>
            <a:endParaRPr b="0" lang="en-US" sz="2400" spc="-1" strike="noStrike">
              <a:solidFill>
                <a:srgbClr val="402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nited States Flag Code</a:t>
            </a:r>
            <a:endParaRPr b="0" lang="en-US" sz="4400" spc="-1" strike="noStrike">
              <a:solidFill>
                <a:srgbClr val="996633"/>
              </a:solidFill>
              <a:latin typeface="Times New Roman"/>
            </a:endParaRPr>
          </a:p>
        </p:txBody>
      </p:sp>
      <p:sp>
        <p:nvSpPr>
          <p:cNvPr id="1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lag is usually flown from dawn to dusk</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nless illuminated</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a group, the Flag should be center and the highes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a room, the Flag should be to the speaker’s righ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 upside down Flag signals distres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o fly the Flag half-staff, raise the Flag fully and lower to the half-way poi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urning of the Flag is a protected form of speech in the United Stat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national anthem is the “The Star Spangled Banner” written by Francis Scott Key during the War of 1812</a:t>
            </a:r>
            <a:endParaRPr b="0" lang="en-US" sz="2400" spc="-1" strike="noStrike">
              <a:solidFill>
                <a:srgbClr val="402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llinois = Becomes a state 1818</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urrent Constitution = 1971</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mpared to the US Constitution, Illinois has 14 Articles (US=7)</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pital = Springfield</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minent domain = power of government to take away private property for public use</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me rule = process in which a county or municipal government may provide its own public services</a:t>
            </a:r>
            <a:endParaRPr b="0" lang="en-US" sz="2400" spc="-1" strike="noStrike">
              <a:solidFill>
                <a:srgbClr val="402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ructure of the Constitution</a:t>
            </a:r>
            <a:endParaRPr b="0" lang="en-US" sz="4400" spc="-1" strike="noStrike">
              <a:solidFill>
                <a:srgbClr val="996633"/>
              </a:solidFill>
              <a:latin typeface="Times New Roman"/>
            </a:endParaRPr>
          </a:p>
        </p:txBody>
      </p:sp>
      <p:grpSp>
        <p:nvGrpSpPr>
          <p:cNvPr id="94" name=""/>
          <p:cNvGrpSpPr/>
          <p:nvPr/>
        </p:nvGrpSpPr>
        <p:grpSpPr>
          <a:xfrm>
            <a:off x="2922480" y="2104920"/>
            <a:ext cx="3908520" cy="3384360"/>
            <a:chOff x="2922480" y="2104920"/>
            <a:chExt cx="3908520" cy="3384360"/>
          </a:xfrm>
        </p:grpSpPr>
        <p:sp>
          <p:nvSpPr>
            <p:cNvPr id="95" name="_s8202"/>
            <p:cNvSpPr/>
            <p:nvPr/>
          </p:nvSpPr>
          <p:spPr>
            <a:xfrm flipV="1">
              <a:off x="2922480" y="4360320"/>
              <a:ext cx="3908520" cy="1128600"/>
            </a:xfrm>
            <a:custGeom>
              <a:avLst/>
              <a:gdLst>
                <a:gd name="textAreaLeft" fmla="*/ 678600 w 3908520"/>
                <a:gd name="textAreaRight" fmla="*/ 3229920 w 3908520"/>
                <a:gd name="textAreaTop" fmla="*/ 195840 h 1128600"/>
                <a:gd name="textAreaBottom" fmla="*/ 932760 h 11286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1"/>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mendments 1-27</a:t>
              </a:r>
              <a:endParaRPr b="0" lang="en-US" sz="1800" spc="-1" strike="noStrike">
                <a:solidFill>
                  <a:srgbClr val="402000"/>
                </a:solidFill>
                <a:latin typeface="Arial"/>
              </a:endParaRPr>
            </a:p>
          </p:txBody>
        </p:sp>
        <p:sp>
          <p:nvSpPr>
            <p:cNvPr id="96" name="_s8201"/>
            <p:cNvSpPr/>
            <p:nvPr/>
          </p:nvSpPr>
          <p:spPr>
            <a:xfrm flipV="1">
              <a:off x="3573360" y="3233160"/>
              <a:ext cx="2606760" cy="1127160"/>
            </a:xfrm>
            <a:custGeom>
              <a:avLst/>
              <a:gdLst>
                <a:gd name="textAreaLeft" fmla="*/ 573120 w 2606760"/>
                <a:gd name="textAreaRight" fmla="*/ 2033640 w 2606760"/>
                <a:gd name="textAreaTop" fmla="*/ 247680 h 1127160"/>
                <a:gd name="textAreaBottom" fmla="*/ 879480 h 11271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2"/>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rticles I - VII</a:t>
              </a:r>
              <a:endParaRPr b="0" lang="en-US" sz="1800" spc="-1" strike="noStrike">
                <a:solidFill>
                  <a:srgbClr val="402000"/>
                </a:solidFill>
                <a:latin typeface="Arial"/>
              </a:endParaRPr>
            </a:p>
          </p:txBody>
        </p:sp>
        <p:sp>
          <p:nvSpPr>
            <p:cNvPr id="97" name="_s8200"/>
            <p:cNvSpPr/>
            <p:nvPr/>
          </p:nvSpPr>
          <p:spPr>
            <a:xfrm flipV="1">
              <a:off x="4226040" y="2104920"/>
              <a:ext cx="1301760" cy="1128960"/>
            </a:xfrm>
            <a:custGeom>
              <a:avLst/>
              <a:gdLst>
                <a:gd name="textAreaLeft" fmla="*/ 466920 w 1301760"/>
                <a:gd name="textAreaRight" fmla="*/ 834840 w 1301760"/>
                <a:gd name="textAreaTop" fmla="*/ 405000 h 1128960"/>
                <a:gd name="textAreaBottom" fmla="*/ 723960 h 11289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3"/>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Preamble</a:t>
              </a:r>
              <a:endParaRPr b="0" lang="en-US" sz="1600" spc="-1" strike="noStrike">
                <a:solidFill>
                  <a:srgbClr val="402000"/>
                </a:solidFill>
                <a:latin typeface="Arial"/>
              </a:endParaRPr>
            </a:p>
          </p:txBody>
        </p:sp>
      </p:grpSp>
      <p:sp>
        <p:nvSpPr>
          <p:cNvPr id="98" name=""/>
          <p:cNvSpPr/>
          <p:nvPr/>
        </p:nvSpPr>
        <p:spPr>
          <a:xfrm>
            <a:off x="1660680" y="5675400"/>
            <a:ext cx="687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STITUTION WAS NEEDED TO REPLACE ‘WEAK’ ARTICLES</a:t>
            </a: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OF CONFEDERATION</a:t>
            </a:r>
            <a:endParaRPr b="0" lang="en-US" sz="1800" spc="-1" strike="noStrike">
              <a:solidFill>
                <a:srgbClr val="402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llinois Legislature = General Assembl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eneral Assembly</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9 legislative districts  (each district must be approximately equal in population)</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18 representative districts</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Qualifications of Members of the General Assembly</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1 years old</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side in district 2yrs.</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itizen</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overnor of Illinois = Pat Quinn</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ext election = November 2014</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ower of line item veto</a:t>
            </a:r>
            <a:endParaRPr b="0" lang="en-US" sz="2000" spc="-1" strike="noStrike">
              <a:solidFill>
                <a:srgbClr val="402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 Officials</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retary of State = Jesse Whit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sue Driver’s License</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Keeper of the state’s official records</a:t>
            </a:r>
            <a:endParaRPr b="0" lang="en-US" sz="28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torney General = Lisa Madiga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hief Law Enforcement Officer</a:t>
            </a:r>
            <a:endParaRPr b="0" lang="en-US" sz="28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easurer = Dan Rutherfor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vest public funds </a:t>
            </a:r>
            <a:endParaRPr b="0" lang="en-US" sz="2800" spc="-1" strike="noStrike">
              <a:solidFill>
                <a:srgbClr val="402000"/>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Judicial System</a:t>
            </a:r>
            <a:endParaRPr b="0" lang="en-US" sz="4400" spc="-1" strike="noStrike">
              <a:solidFill>
                <a:srgbClr val="996633"/>
              </a:solidFill>
              <a:latin typeface="Times New Roman"/>
            </a:endParaRPr>
          </a:p>
        </p:txBody>
      </p:sp>
      <p:sp>
        <p:nvSpPr>
          <p:cNvPr id="16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System</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ree types of courts</a:t>
            </a:r>
            <a:endParaRPr b="0" lang="en-US" sz="24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upreme, Appellate, Circuit</a:t>
            </a:r>
            <a:endParaRPr b="0" lang="en-US" sz="20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Illinois Judges are elected by the people</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rements to be elected or appointed as a judge</a:t>
            </a:r>
            <a:endParaRPr b="0" lang="en-US" sz="24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awyer</a:t>
            </a:r>
            <a:endParaRPr b="0" lang="en-US" sz="20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sident of district</a:t>
            </a:r>
            <a:endParaRPr b="0" lang="en-US" sz="20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itizen</a:t>
            </a:r>
            <a:endParaRPr b="0" lang="en-US" sz="20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rand Jury = a panel of 16-23 people who decide if there is enough evidence to charge a suspect (indictment)</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ILLINOIS VOTER REQUIREMENTS</a:t>
            </a:r>
            <a:endParaRPr b="0" lang="en-US" sz="40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y changes (amendments) to the Illinois Constitution must be approved by the voters of Illinois</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18 years old</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ident of the state &gt; 30 days</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gister to vote by election deadline – usually 30 days prior to election</a:t>
            </a:r>
            <a:endParaRPr b="0" lang="en-US" sz="3200" spc="-1" strike="noStrike">
              <a:solidFill>
                <a:srgbClr val="402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0" name=""/>
          <p:cNvGraphicFramePr/>
          <p:nvPr/>
        </p:nvGraphicFramePr>
        <p:xfrm>
          <a:off x="-304920" y="0"/>
          <a:ext cx="9651960" cy="6858000"/>
        </p:xfrm>
        <a:graphic>
          <a:graphicData uri="http://schemas.openxmlformats.org/presentationml/2006/ole">
            <p:oleObj r:id="rId1" spid="">
              <p:embed/>
              <p:pic>
                <p:nvPicPr>
                  <p:cNvPr id="171" name="" descr=""/>
                  <p:cNvPicPr/>
                  <p:nvPr/>
                </p:nvPicPr>
                <p:blipFill>
                  <a:blip r:embed="rId2"/>
                  <a:stretch/>
                </p:blipFill>
                <p:spPr>
                  <a:xfrm>
                    <a:off x="-304920" y="0"/>
                    <a:ext cx="9651960" cy="685800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2" name=""/>
          <p:cNvGraphicFramePr/>
          <p:nvPr/>
        </p:nvGraphicFramePr>
        <p:xfrm>
          <a:off x="0" y="57240"/>
          <a:ext cx="9144000" cy="6800760"/>
        </p:xfrm>
        <a:graphic>
          <a:graphicData uri="http://schemas.openxmlformats.org/presentationml/2006/ole">
            <p:oleObj r:id="rId1" spid="">
              <p:embed/>
              <p:pic>
                <p:nvPicPr>
                  <p:cNvPr id="173" name="" descr=""/>
                  <p:cNvPicPr/>
                  <p:nvPr/>
                </p:nvPicPr>
                <p:blipFill>
                  <a:blip r:embed="rId2"/>
                  <a:stretch/>
                </p:blipFill>
                <p:spPr>
                  <a:xfrm>
                    <a:off x="0" y="57240"/>
                    <a:ext cx="9144000" cy="6800760"/>
                  </a:xfrm>
                  <a:prstGeom prst="rect">
                    <a:avLst/>
                  </a:prstGeom>
                  <a:ln w="0">
                    <a:noFill/>
                  </a:ln>
                </p:spPr>
              </p:pic>
            </p:oleObj>
          </a:graphicData>
        </a:graphic>
      </p:graphicFrame>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4" name=""/>
          <p:cNvGraphicFramePr/>
          <p:nvPr/>
        </p:nvGraphicFramePr>
        <p:xfrm>
          <a:off x="101520" y="114480"/>
          <a:ext cx="8940960" cy="6686280"/>
        </p:xfrm>
        <a:graphic>
          <a:graphicData uri="http://schemas.openxmlformats.org/presentationml/2006/ole">
            <p:oleObj r:id="rId1" spid="">
              <p:embed/>
              <p:pic>
                <p:nvPicPr>
                  <p:cNvPr id="175" name="" descr=""/>
                  <p:cNvPicPr/>
                  <p:nvPr/>
                </p:nvPicPr>
                <p:blipFill>
                  <a:blip r:embed="rId2"/>
                  <a:stretch/>
                </p:blipFill>
                <p:spPr>
                  <a:xfrm>
                    <a:off x="101520" y="114480"/>
                    <a:ext cx="8940960" cy="6686280"/>
                  </a:xfrm>
                  <a:prstGeom prst="rect">
                    <a:avLst/>
                  </a:prstGeom>
                  <a:ln w="0">
                    <a:noFill/>
                  </a:ln>
                </p:spPr>
              </p:pic>
            </p:oleObj>
          </a:graphicData>
        </a:graphic>
      </p:graphicFrame>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6" name=""/>
          <p:cNvGraphicFramePr/>
          <p:nvPr/>
        </p:nvGraphicFramePr>
        <p:xfrm>
          <a:off x="0" y="0"/>
          <a:ext cx="9144000" cy="6858000"/>
        </p:xfrm>
        <a:graphic>
          <a:graphicData uri="http://schemas.openxmlformats.org/presentationml/2006/ole">
            <p:oleObj r:id="rId1" spid="">
              <p:embed/>
              <p:pic>
                <p:nvPicPr>
                  <p:cNvPr id="177" name="" descr=""/>
                  <p:cNvPicPr/>
                  <p:nvPr/>
                </p:nvPicPr>
                <p:blipFill>
                  <a:blip r:embed="rId2"/>
                  <a:stretch/>
                </p:blipFill>
                <p:spPr>
                  <a:xfrm>
                    <a:off x="0" y="0"/>
                    <a:ext cx="9144000" cy="6858000"/>
                  </a:xfrm>
                  <a:prstGeom prst="rect">
                    <a:avLst/>
                  </a:prstGeom>
                  <a:ln w="0">
                    <a:noFill/>
                  </a:ln>
                </p:spPr>
              </p:pic>
            </p:oleObj>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ructure of the Constitution</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amble – States the ‘WHY’ and goal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 – Legislative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I – Executive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II – Judicial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V – Relationship between State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 – Amendment proces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I – Supremacy Clause</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II – Ratification proces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mendments – Changes to the Constitution</a:t>
            </a:r>
            <a:endParaRPr b="0" lang="en-US" sz="2800" spc="-1" strike="noStrike">
              <a:solidFill>
                <a:srgbClr val="402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jor Principles</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pular Sovereignty – People are the source of power (electing representatives, etc.)</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ederalism – Power divided between national and state government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paration of Powers – Division of power between three branches of govern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hecks and Balances – Each branch holds some power over the other two branch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Judicial Review – Power of the courts to review laws and actions for constitutionalit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mited Government – Limits the authority of the federal government</a:t>
            </a:r>
            <a:endParaRPr b="0" lang="en-US" sz="2400" spc="-1" strike="noStrike">
              <a:solidFill>
                <a:srgbClr val="402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eamble</a:t>
            </a:r>
            <a:endParaRPr b="0" lang="en-US" sz="4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br>
              <a:rPr sz="2800"/>
            </a:b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a7f32"/>
                </a:solidFill>
                <a:uFillTx/>
                <a:latin typeface="Times New Roman"/>
                <a:hlinkClick r:id="rId1"/>
              </a:rPr>
              <a:t>Schoolhouse Rock</a:t>
            </a:r>
            <a:br>
              <a:rPr sz="2800"/>
            </a:br>
            <a:r>
              <a:rPr b="0" lang="en-US" sz="2800" spc="-1" strike="noStrike" u="sng">
                <a:solidFill>
                  <a:srgbClr val="9a7f32"/>
                </a:solidFill>
                <a:uFillTx/>
                <a:latin typeface="Times New Roman"/>
              </a:rPr>
              <a:t> </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a7f32"/>
                </a:solidFill>
                <a:uFillTx/>
                <a:latin typeface="Times New Roman"/>
                <a:hlinkClick r:id="rId2"/>
              </a:rPr>
              <a:t>Barney Fife</a:t>
            </a:r>
            <a:endParaRPr b="0" lang="en-US" sz="2800" spc="-1" strike="noStrike">
              <a:solidFill>
                <a:srgbClr val="402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14680" y="660240"/>
            <a:ext cx="5715000" cy="5537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amples – Separation of Power</a:t>
            </a:r>
            <a:endParaRPr b="0" lang="en-US" sz="4400" spc="-1" strike="noStrike">
              <a:solidFill>
                <a:srgbClr val="996633"/>
              </a:solidFill>
              <a:latin typeface="Times New Roman"/>
            </a:endParaRPr>
          </a:p>
        </p:txBody>
      </p:sp>
      <p:grpSp>
        <p:nvGrpSpPr>
          <p:cNvPr id="107" name=""/>
          <p:cNvGrpSpPr/>
          <p:nvPr/>
        </p:nvGrpSpPr>
        <p:grpSpPr>
          <a:xfrm>
            <a:off x="1724040" y="952560"/>
            <a:ext cx="6371280" cy="6371640"/>
            <a:chOff x="1724040" y="952560"/>
            <a:chExt cx="6371280" cy="6371640"/>
          </a:xfrm>
        </p:grpSpPr>
        <p:sp>
          <p:nvSpPr>
            <p:cNvPr id="108" name="_s14345"/>
            <p:cNvSpPr/>
            <p:nvPr/>
          </p:nvSpPr>
          <p:spPr>
            <a:xfrm>
              <a:off x="2577960" y="1806480"/>
              <a:ext cx="4663800" cy="466416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09" name="_s14346"/>
            <p:cNvSpPr/>
            <p:nvPr/>
          </p:nvSpPr>
          <p:spPr>
            <a:xfrm rot="7200000">
              <a:off x="2577240" y="1806120"/>
              <a:ext cx="4664160" cy="466380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10" name="_s14348"/>
            <p:cNvSpPr/>
            <p:nvPr/>
          </p:nvSpPr>
          <p:spPr>
            <a:xfrm rot="14400000">
              <a:off x="2577600" y="1806480"/>
              <a:ext cx="4664160" cy="466380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11" name="_s14343"/>
            <p:cNvSpPr/>
            <p:nvPr/>
          </p:nvSpPr>
          <p:spPr>
            <a:xfrm>
              <a:off x="5881320" y="2455920"/>
              <a:ext cx="142236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ECUTIVE</a:t>
              </a:r>
              <a:endParaRPr b="0" lang="en-US" sz="1800" spc="-1" strike="noStrike">
                <a:solidFill>
                  <a:srgbClr val="402000"/>
                </a:solidFill>
                <a:latin typeface="Arial"/>
              </a:endParaRPr>
            </a:p>
          </p:txBody>
        </p:sp>
        <p:sp>
          <p:nvSpPr>
            <p:cNvPr id="112" name="_s14344"/>
            <p:cNvSpPr/>
            <p:nvPr/>
          </p:nvSpPr>
          <p:spPr>
            <a:xfrm>
              <a:off x="4198680" y="5369040"/>
              <a:ext cx="142200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DICIAL</a:t>
              </a:r>
              <a:endParaRPr b="0" lang="en-US" sz="1800" spc="-1" strike="noStrike">
                <a:solidFill>
                  <a:srgbClr val="402000"/>
                </a:solidFill>
                <a:latin typeface="Arial"/>
              </a:endParaRPr>
            </a:p>
          </p:txBody>
        </p:sp>
        <p:sp>
          <p:nvSpPr>
            <p:cNvPr id="113" name="_s14347"/>
            <p:cNvSpPr/>
            <p:nvPr/>
          </p:nvSpPr>
          <p:spPr>
            <a:xfrm>
              <a:off x="2516040" y="2455920"/>
              <a:ext cx="142200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LEGISLATIVE</a:t>
              </a:r>
              <a:endParaRPr b="0" lang="en-US" sz="1800" spc="-1" strike="noStrike">
                <a:solidFill>
                  <a:srgbClr val="402000"/>
                </a:solidFill>
                <a:latin typeface="Arial"/>
              </a:endParaRPr>
            </a:p>
          </p:txBody>
        </p:sp>
      </p:grpSp>
      <p:sp>
        <p:nvSpPr>
          <p:cNvPr id="114" name=""/>
          <p:cNvSpPr/>
          <p:nvPr/>
        </p:nvSpPr>
        <p:spPr>
          <a:xfrm>
            <a:off x="3870000" y="36194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a7f32"/>
                </a:solidFill>
                <a:uFillTx/>
                <a:latin typeface="Times New Roman"/>
                <a:hlinkClick r:id="rId1"/>
              </a:rPr>
              <a:t>Three Ring Circus</a:t>
            </a:r>
            <a:endParaRPr b="0" lang="en-US" sz="1800" spc="-1" strike="noStrike">
              <a:solidFill>
                <a:srgbClr val="402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xamples of Checks and Balances</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eto ability</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gress passes law</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sident refuses to sign</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gress can override with 2/3 majority</a:t>
            </a:r>
            <a:endParaRPr b="0" lang="en-US" sz="24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mination</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sident appoints key officials</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approves appointments</a:t>
            </a:r>
            <a:endParaRPr b="0" lang="en-US" sz="24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Review</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rbury vs. Madison *** Supreme Court determines whether a law is constitutional </a:t>
            </a:r>
            <a:endParaRPr b="0" lang="en-US" sz="2400" spc="-1" strike="noStrike">
              <a:solidFill>
                <a:srgbClr val="402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6:12:56Z</dcterms:created>
  <dc:creator> </dc:creator>
  <dc:description/>
  <dc:language>en-US</dc:language>
  <cp:lastModifiedBy>School District U46</cp:lastModifiedBy>
  <dcterms:modified xsi:type="dcterms:W3CDTF">2012-12-07T13:46:28Z</dcterms:modified>
  <cp:revision>55</cp:revision>
  <dc:subject/>
  <dc:title>United States Constitution</dc:title>
</cp:coreProperties>
</file>